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604D-3B89-4FC7-92FA-858542089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374-2180-48E1-AE6B-7956BA70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3DE-0BD5-4C6E-BC0C-29CF1C84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860-4856-431C-BBF9-EE4AA52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8FF-0C03-4016-AC86-821F6992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F37-8FA0-4AF4-84DD-3971C062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066-94DD-4CCF-BCA1-764196DB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AC2-8625-4AF5-8FE6-23FC43A4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BFF-2378-4FB0-9AE7-F2DC74F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0AB-51CE-48BB-AAA4-523183B6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F84-9C46-4B7C-839D-B8D8BF40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4F7-93F8-4B6F-8203-CB8A395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66D-914B-45F7-BB7A-951975BF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E93-A138-4DD2-BC08-E396CA42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BB2-849E-47E0-9525-F7133DA3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mal 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amal 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mal Ma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mal Ma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mal Ma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. Amig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amal Yo vivo en New York. .Tengo quince años. Tengo tres hermano. 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22Z</dcterms:modified>
  <cp:revision>102</cp:revision>
  <dc:subject/>
  <dc:title>Profile</dc:title>
</cp:coreProperties>
</file>